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5CE-23EA-44C3-A6F9-1AEFA50D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5E1-4208-490B-8D90-9BDBFA7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2A2-5F8E-413A-8D87-03CAE3DF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CB7-1064-4194-BB5E-08A443DF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1A7-BC5D-4006-965F-AE338C7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7F4-44DE-4269-AAFD-0AE4D2B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9BE-52DA-4B3F-99A5-7B14ADDD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057-3B11-41DA-9BC6-F7A03C6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B7B-C7FD-417A-A404-0414EB4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6C2-06B6-4B3E-876A-A7CDD7A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A4E-9083-43BD-9E5D-8383304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967-08CA-4340-A4C6-4C6C1D4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479-51AD-43C5-B0E2-76C384E85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. Kostenträgerzeitrechnung - Kurzfristi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folgsrechnung (Betriebsergebnisrechn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ür ei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brechnungspe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den di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gefallenen 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ch Kostenarten und/oder Kostenträgergruppen (Leistungsarten) festgestellt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n erbrachten Leistungen gegenüberge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762120"/>
            <a:ext cx="67816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msatzkostenverfahren (UK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bstkosten d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Umsatzerlö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bgesetz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kt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erstellkosten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kauften 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Vertrieb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Verwaltungskos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2133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380880"/>
            <a:ext cx="73152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ispiel zum Gesamt- und Umsatz-Kostenverfah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duktionsmenge (Stück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satzmenge (Stück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amtkosten der Peri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erstellkost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triebskosten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16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waltungskosten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2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satzerlös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47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K/Stück (1.400.000/8.000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tr.Kosten/Stück (160.000/5.000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w.Kosten/Stück (240.000/5.000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lbstkosten/Stück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kaufspreis/Stück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95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2952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amtkosten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0020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stell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8.000*1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195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rieb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6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96252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waltungskosten   2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60020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sat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7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2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8954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andserhöhung     52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.000*1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867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029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wi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2952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satzkosten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002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stell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87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 verkauften Produ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1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195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riebkos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6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waltungskosten   2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60020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sat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7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.000*2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867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75.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7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029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wi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88a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8006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k der Vollkos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88b" descr=""/>
          <p:cNvPicPr/>
          <p:nvPr/>
        </p:nvPicPr>
        <p:blipFill>
          <a:blip r:embed="rId1"/>
          <a:stretch/>
        </p:blipFill>
        <p:spPr>
          <a:xfrm>
            <a:off x="1371600" y="1033560"/>
            <a:ext cx="6248520" cy="5138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808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riebsergebnisrechnung auf Vollkosten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533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2. Deckungsbetrag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676520"/>
            <a:ext cx="7315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einzelnen Produkte bzw. Produktgruppen werde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nu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n variablen Stückkosten belastet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hren Nettoumsatzerlösen gegenübergestel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xe Kosten werde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uf di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stenträge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verrech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fixen Kosten werden in d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triebsergebnisrechnung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w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 global in einer Summe (einstuf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 differenziert in mehreren Stufen (mehrstufi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gewi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6094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95280"/>
            <a:ext cx="76960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4.2.1. Einstufige Deckungsbeitragsrechnung (direct costing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msatzkostenverfahren auf Grenzkostenba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ckungsbetrag  = Nettoumsatzerlöse - variabl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eckungsbetrag = Beitrag einer Produkt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zur Deckung der fixen Kosten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zum Betriebsergeb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457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447920"/>
            <a:ext cx="7696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nnzahlen der Deckungsbeitragsrechn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kungsbei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tragsstärke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toumsatzerlö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952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viel  Euro  Deckungsbeitrag pro € 100,- Nettoumsatz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urch ein  Produkt erwirtschaftet wer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055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457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447920"/>
            <a:ext cx="7696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nnzahlen der Deckungsbeitragsrechn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kungsbei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folgsstärke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amtdeckungsbei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9528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teil des Deckungsbeitrags eines Produk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m Gesamtdeckungsbeitr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1055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80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670572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Leistungs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rlö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estandsrechnung für erstellte Güter und Dienstleis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nerbetriebliche Leistung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457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447920"/>
            <a:ext cx="769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ennzahlen der Deckungsbeitragsrechn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satzpreisfind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l-Deckungsbei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satzpreis    =   Variable Stückselbstkosten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bsatzm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952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geplanten variablen Stückselbstkosten werden um die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l-Deckungsbeiträge ergän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1055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457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 Deckungsbeitrags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447920"/>
            <a:ext cx="7696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nnzahlen der Deckungsbeitragsrechn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rzfristige Programm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ückdeckungsbei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passbezogener Deckungsbeitrag 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passbeanspru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95288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Rangfolge der Produktionsmengen wird durch den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B/Engpasseinheit festgeleg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 für das höchstmögliche Betriebsergeb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1055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3880"/>
            <a:ext cx="87631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betriebliche Leistungsrechn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üter-/Dienstleistungserstellu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üter-/Dienstleistungsverz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 Perio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r Pe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istungsrechnung fü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icht absatzbestimm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üter und Dienstleistung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in 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leic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iod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rstel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d au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rbrauc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rechnung der sekundären Koste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lage der Hilfskostenstellen auf Hauptkosten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048120"/>
            <a:ext cx="1447920" cy="228600"/>
          </a:xfrm>
          <a:prstGeom prst="leftRightArrow">
            <a:avLst>
              <a:gd name="adj1" fmla="val 50000"/>
              <a:gd name="adj2" fmla="val 1260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3880"/>
            <a:ext cx="8077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standsrechnung für erstellte Güter und Dienstleis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rt- und mengenmäßige Erfassu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nicht abgesetzter Halb- und Fertigfabrik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zu aktivierende Eigenleistung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 Verbrauch über mehrere Perio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rfassung unabhängig von Bilanzierungsvorschriften des H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14400"/>
            <a:ext cx="6781680" cy="6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lös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e abgesetzten Güter und Dienst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wertet mit den jeweilig erzielten Prei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nn gegliedert werden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istungsar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istungsstell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istungsträger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ch Absatzmärkten, Absatzkonditionen,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23880"/>
            <a:ext cx="67816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fahren der Kostenträger-Zeit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amtkostenverfahren (GK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satzkostenverfahren (UK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0481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724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762120"/>
            <a:ext cx="6781680" cy="71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samtkostenverfahren (GK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di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samten Kost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erden ausgewies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- nach Kostenarten geglied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- um die Bestandminderungen an unfertigen und fertigen Gü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Dienstleistungen korrig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di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samten Leistung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erden ausgewies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- Umsatzerlö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- Bestandserhöhungen an unfertigen und fertigen Gütern un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nst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- mehrperiodig nutzbaren Eigenleistungen/selbsterstellten An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762120"/>
            <a:ext cx="358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samtkostenverfahren (GK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81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amte Kosten der Pe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209680"/>
            <a:ext cx="426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satzerlö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standserhöhungen an UE/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hrperiodig nutzbare Eigen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572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572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4876920"/>
            <a:ext cx="2590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amte Kosten der Pe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andsminderungen an UE/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800600"/>
            <a:ext cx="419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satzerlö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hrperiodig nutzbare Eigen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tenträger-Zeit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762120"/>
            <a:ext cx="678168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msatzkostenverfahren (UK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Selbstkosten 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bgesetz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kte werden ausgewi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abhängig in welcher Periode sie produziert wu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Umsatzerlöse werden ausgewi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ges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ber auch nur fü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inzel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kte oder Produkt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20:29:54Z</dcterms:created>
  <dc:creator>Administrator</dc:creator>
  <dc:description/>
  <dc:language>en-US</dc:language>
  <cp:lastModifiedBy>Administrator</cp:lastModifiedBy>
  <dcterms:modified xsi:type="dcterms:W3CDTF">2002-03-25T21:32:19Z</dcterms:modified>
  <cp:revision>22</cp:revision>
  <dc:subject/>
  <dc:title>Kein Folientitel</dc:title>
</cp:coreProperties>
</file>