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6950-AF4F-4188-A832-E56558E1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0C17-558F-4EEE-9F63-91A14AB7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0FB7-451A-4A7A-97F2-88CB8ED0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0414-675E-4C99-B891-B6F7A810F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E35F-87F4-4B52-AC49-B92381D8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8564-B5D5-48EA-A5B3-980D7968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EE35-F362-4942-B8FE-E569C163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979A-68AF-4D52-AB27-A10BA85E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34AF-DF0F-4D9F-AEE5-7D1248B3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BEFC-F6C7-43C9-88DE-021EB90E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EF39-08BF-4F9D-B63A-0E01C5AB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8B80-3B6C-4CFD-AD8A-6814465D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S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M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S Gothic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M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S Gothic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M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S Gothic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M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S Gothic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M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S Gothic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M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S Gothic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M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S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S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S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S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40E9-3BC2-4826-AA04-ED6BED4700C7}" type="slidenum">
              <a:rPr b="0" lang="en-US" sz="1400" spc="-1" strike="noStrike">
                <a:solidFill>
                  <a:srgbClr val="000000"/>
                </a:solidFill>
                <a:latin typeface="MS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6858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V. Kostenträgerrechnung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52388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Aufgaben der Kostenträgerrechnung</a:t>
            </a: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2286000"/>
            <a:ext cx="79246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1.1. Kostenträgerstückrechnung</a:t>
            </a: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Ermittlung der Herstellungs- und Selbstkosten der Kostenträger:</a:t>
            </a: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bsatzleistungen</a:t>
            </a: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innerbetriebliche Leistungen </a:t>
            </a: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- aktivierbar</a:t>
            </a: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- nicht aktivierbar</a:t>
            </a: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3520" y="457200"/>
            <a:ext cx="601956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V. Kostenrechnung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.3.3. Mehrstufige Divisionskalkulation</a:t>
            </a: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2133720"/>
            <a:ext cx="487656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Voraussetzung:</a:t>
            </a: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Mehrstufige Produktionsprozesse</a:t>
            </a: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28954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259092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Zwischenprodukte in Zwischenlägern</a:t>
            </a: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4343400"/>
            <a:ext cx="50292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ückherstellkosten je Fertigungsstufe  =</a:t>
            </a: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erstellkosten der Fertigungsstufe</a:t>
            </a: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ktionsmenge der Fertigungsstufe</a:t>
            </a: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36576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ostenstellenrechnung</a:t>
            </a: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s59" descr=""/>
          <p:cNvPicPr/>
          <p:nvPr/>
        </p:nvPicPr>
        <p:blipFill>
          <a:blip r:embed="rId1"/>
          <a:stretch/>
        </p:blipFill>
        <p:spPr>
          <a:xfrm>
            <a:off x="685800" y="880920"/>
            <a:ext cx="78487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s60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791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62120" y="2438280"/>
            <a:ext cx="2590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609480"/>
            <a:ext cx="54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3.2. Äquivalenzziffernkalkulation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447920"/>
            <a:ext cx="8001000" cy="52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Besondere Form der Divisionskalkulation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für Produkte mit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ähnlicher Kostenstruktur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ehrere Sorten oder Varianten eines Produktes 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 gleichartigen Produktionsprozessen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ie unterschiedliche Kostenstruktur wird mit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Äquivalenzziffern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                    (d.h. Wertigkeitsziffern, Umrechnungsfaktoren, Verhältniszahlen der Gewichtung) gewichtet.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Äquvalenzziffer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erhältnis der Kosten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eines bestimmten Produkts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ieses Produkts zum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inheitsprodukt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14" name=""/>
          <p:cNvSpPr/>
          <p:nvPr/>
        </p:nvSpPr>
        <p:spPr>
          <a:xfrm>
            <a:off x="3733920" y="5257800"/>
            <a:ext cx="1143000" cy="228600"/>
          </a:xfrm>
          <a:prstGeom prst="rightArrow">
            <a:avLst>
              <a:gd name="adj1" fmla="val 50000"/>
              <a:gd name="adj2" fmla="val 1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2819520"/>
            <a:ext cx="533520" cy="75960"/>
          </a:xfrm>
          <a:prstGeom prst="rightArrow">
            <a:avLst>
              <a:gd name="adj1" fmla="val 50000"/>
              <a:gd name="adj2" fmla="val 1755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3276720"/>
            <a:ext cx="533520" cy="75960"/>
          </a:xfrm>
          <a:prstGeom prst="rightArrow">
            <a:avLst>
              <a:gd name="adj1" fmla="val 50000"/>
              <a:gd name="adj2" fmla="val 1755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2438280"/>
            <a:ext cx="2590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609480"/>
            <a:ext cx="54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3.2. Äquivalenzziffernkalkulation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1523880"/>
            <a:ext cx="746748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.B.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in Blechwalzwerk produziert drei verschiedene Bleche. Sorte A kostet 20 % mehr als Sorte B; Sorte C kostet 10 % weniger als B: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r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Äquivalenzziffer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,0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,9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s62" descr=""/>
          <p:cNvPicPr/>
          <p:nvPr/>
        </p:nvPicPr>
        <p:blipFill>
          <a:blip r:embed="rId1"/>
          <a:stretch/>
        </p:blipFill>
        <p:spPr>
          <a:xfrm>
            <a:off x="762120" y="1949400"/>
            <a:ext cx="784836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s63" descr=""/>
          <p:cNvPicPr/>
          <p:nvPr/>
        </p:nvPicPr>
        <p:blipFill>
          <a:blip r:embed="rId1"/>
          <a:stretch/>
        </p:blipFill>
        <p:spPr>
          <a:xfrm>
            <a:off x="1752480" y="822240"/>
            <a:ext cx="6019920" cy="55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38080" y="6094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3.2.2. Kombinierte Äquivalenzziffernrechnung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2133720"/>
            <a:ext cx="75438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nd mehrere Kosteneinflußgrößen zu berücksichtigen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inzelne Sorten unterschieden sich durch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mehrere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erkmale: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ie einzelnen Gewichtungsfaktoren werden durch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Multiplikation verknüpft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und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zu einer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Äquivalenzziffernreihe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zusammengefasst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19810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838080" y="60948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3.3. Zuschlagskalkulation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1828800"/>
            <a:ext cx="792504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ür Produkte mit unterschiedlicher Kostenstruktur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inzel- oder Serienfertigung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inzelkosten werde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irek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n Produkten belastet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d 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meinkosten, für alle oder für die meisten Erzeugnisse anfallen, werde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direkt,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.h. mit Zuschlagssätzen belastet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2438280"/>
            <a:ext cx="609480" cy="76320"/>
          </a:xfrm>
          <a:prstGeom prst="rightArrow">
            <a:avLst>
              <a:gd name="adj1" fmla="val 50000"/>
              <a:gd name="adj2" fmla="val 1996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s65" descr=""/>
          <p:cNvPicPr/>
          <p:nvPr/>
        </p:nvPicPr>
        <p:blipFill>
          <a:blip r:embed="rId1"/>
          <a:stretch/>
        </p:blipFill>
        <p:spPr>
          <a:xfrm>
            <a:off x="1447920" y="533520"/>
            <a:ext cx="6476760" cy="6218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447920" y="1522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3.3.1. Summarische Zuschlagskalkulation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228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V. Kostenträgerrechnung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335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Aufgaben der Kostenträgerrechnung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031760"/>
            <a:ext cx="7162920" cy="58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1.1.1. Kostenträger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ück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rechnung</a:t>
            </a: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Ermittlung der Herstellungs- und Selbstkosten der Kostenträger für:</a:t>
            </a: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Bewertung </a:t>
            </a: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- der Bestände der Halb- und Fertigerzeugnisse</a:t>
            </a: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- der selbsterstellten Anlagen</a:t>
            </a: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für Handels- und Steuerbilanz und kurzfristige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Erfolgsrechnung</a:t>
            </a: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preispolitische Entscheidungen</a:t>
            </a: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interne Verrechnungspreise</a:t>
            </a: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Preisobergrenzen beim Einkauf</a:t>
            </a: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usgangsdaten in der Planungsrechung</a:t>
            </a: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s66" descr=""/>
          <p:cNvPicPr/>
          <p:nvPr/>
        </p:nvPicPr>
        <p:blipFill>
          <a:blip r:embed="rId1"/>
          <a:stretch/>
        </p:blipFill>
        <p:spPr>
          <a:xfrm>
            <a:off x="1676520" y="995400"/>
            <a:ext cx="6629400" cy="54054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990720" y="228600"/>
            <a:ext cx="60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1.3.3.2. Summarisch-elektive Zuschlagskalkulation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s67" descr=""/>
          <p:cNvPicPr/>
          <p:nvPr/>
        </p:nvPicPr>
        <p:blipFill>
          <a:blip r:embed="rId1"/>
          <a:stretch/>
        </p:blipFill>
        <p:spPr>
          <a:xfrm>
            <a:off x="1371600" y="604800"/>
            <a:ext cx="5877000" cy="6253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295280" y="22860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3.3.3. Differenzierende Zuschlagskalkulation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14400" y="533520"/>
            <a:ext cx="6248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3.3.4. Maschinenstundensatzkalkulation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1263600"/>
            <a:ext cx="716256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u de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aschinenabhängig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emeinkosten gehören in erster Linie folgende Kostenarten: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Kalkulatorische Abschreibungen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Kalkulatorische Zinsen auf das Anlagevermögen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Reparatur- und Instandhaltungskosten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Werkzeugkosten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ergiekosten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Raumkosten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2120" y="4572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schinenstundensatzkalkulation</a:t>
            </a:r>
            <a:endParaRPr b="0" lang="en-US" sz="16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1523880"/>
            <a:ext cx="80010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o Kostenstelle bzw. pro Maschinengruppe: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schinenabhängige Fertigungsgemeinkosten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schinenstundensatz =  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leistete Maschinenstunden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733920" y="42670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s68b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6248520" cy="5035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914400" y="15228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aschinensstundensatzkalkulation</a:t>
            </a:r>
            <a:endParaRPr b="0" lang="en-US" sz="16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5943600"/>
            <a:ext cx="693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fektive Maschinengesamtlaufzeit 2.500 Stunden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ertigungslöhne: DM 55.000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s69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178760" cy="1981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62120" y="3049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schinenstundensatzkalkulation</a:t>
            </a:r>
            <a:endParaRPr b="0" lang="en-US" sz="1600" spc="-1" strike="noStrike">
              <a:solidFill>
                <a:srgbClr val="000000"/>
              </a:solidFill>
              <a:latin typeface="MS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62120" y="0"/>
            <a:ext cx="5257800" cy="9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3.4. Verfahren zur Kalkulation von Kuppelprodukten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3.4.1. Restwertrechnung - Beispiel: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914400"/>
            <a:ext cx="6324480" cy="63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in Hochofenprozeß verursacht Gesamtkosten in Höhe vo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€ 8.160.000; 4.500t Roheisen, 168.000 cm Gichtgas und 720t Schlacke wurden erzeugt. Die Kosten der Weiterverarbeitung betrugen € 1.035.000 für Roheisen und € 1.200 für Gichtgas. Für Entsorgungskosten der Schlacke fielen € 54.000 an. Das Gichtgas wurde zu € -,15/cm verkauft.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erstellkosten/Tonne Roheisen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€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samtkosten des Kuppelproduktionsprozesse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8.160.000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Verkaufserlöse (Gichtgas)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25.200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+ Kosten der Weiterverarbeitung (Gichtgas)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1.200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+ Kosten der Abfallbeseitigung (Schlacke)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54.000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= vom Roheisen (Hauptprodukt) zu deckende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stkosten des Kuppelproduktionsprozesse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8.190.000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+ Kosten der Weiterverarbeitung (Roheisen)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1.035.000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= Herstellkosten des Roheisen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9.225.000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erstellkosten/Tonne: € 9.225.000 : 4.500 t = € 2.050/t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09480" y="152280"/>
            <a:ext cx="5791320" cy="7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fahren zur Kalkulation von Kuppelprodukten</a:t>
            </a:r>
            <a:endParaRPr b="0" lang="en-US" sz="16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3.4.2. Verteilungsrechnung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8380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in Chemieunternehmen stellt drei Produkte A, B und C her, die insgesamt € 73.100 Kosten verursachen. 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1523880"/>
            <a:ext cx="5638680" cy="2057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236232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50" name=""/>
          <p:cNvSpPr/>
          <p:nvPr/>
        </p:nvSpPr>
        <p:spPr>
          <a:xfrm>
            <a:off x="3581280" y="15238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15238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1600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uppelprodukt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53" name=""/>
          <p:cNvSpPr/>
          <p:nvPr/>
        </p:nvSpPr>
        <p:spPr>
          <a:xfrm>
            <a:off x="3581280" y="16002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ktionsmenge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kg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54" name=""/>
          <p:cNvSpPr/>
          <p:nvPr/>
        </p:nvSpPr>
        <p:spPr>
          <a:xfrm>
            <a:off x="5638680" y="1523880"/>
            <a:ext cx="1447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tpreis       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kg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55" name=""/>
          <p:cNvSpPr/>
          <p:nvPr/>
        </p:nvSpPr>
        <p:spPr>
          <a:xfrm>
            <a:off x="1905120" y="2362320"/>
            <a:ext cx="1600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2362320"/>
            <a:ext cx="1752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800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600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200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2362320"/>
            <a:ext cx="1295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,-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,-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,-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3657600"/>
            <a:ext cx="7848720" cy="2743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3657600"/>
            <a:ext cx="7772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Kuppel-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oduktionsmenge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Äquivalenz-       Rechen-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samt-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Kosten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odukt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   in kg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ziffern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    einheiten        kosten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€/kg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4724280"/>
            <a:ext cx="7772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4.8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1,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28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44.88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9,35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1.6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1,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240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19.04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11,90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1.2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0,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08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9.18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7,65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8.600         73.100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8686800" y="5257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4724280"/>
            <a:ext cx="792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36576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64" name=""/>
          <p:cNvSpPr/>
          <p:nvPr/>
        </p:nvSpPr>
        <p:spPr>
          <a:xfrm>
            <a:off x="3733920" y="36576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36576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66" name=""/>
          <p:cNvSpPr/>
          <p:nvPr/>
        </p:nvSpPr>
        <p:spPr>
          <a:xfrm>
            <a:off x="6477120" y="3657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67" name=""/>
          <p:cNvSpPr/>
          <p:nvPr/>
        </p:nvSpPr>
        <p:spPr>
          <a:xfrm>
            <a:off x="7467480" y="3657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594360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09480" y="457200"/>
            <a:ext cx="72392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4. Kalkulation im Handelsbetrieb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Überblick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3048120"/>
            <a:ext cx="2590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ndelskalkulation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4191120"/>
            <a:ext cx="2971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zugskalkulation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72" name=""/>
          <p:cNvSpPr/>
          <p:nvPr/>
        </p:nvSpPr>
        <p:spPr>
          <a:xfrm>
            <a:off x="5105520" y="4114800"/>
            <a:ext cx="3124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satzkalkulation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286000" y="3505320"/>
            <a:ext cx="1295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3505320"/>
            <a:ext cx="2286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38080" y="38088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4.1. Bezugskalkulation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2743200"/>
            <a:ext cx="5943600" cy="3200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3124080"/>
            <a:ext cx="71629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isteneinkaufspreis (LEP)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Liefererrabatt (Lrab)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Zieleinkaufspreis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Liefererskonto (Lsk)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areinkaufspreis (BEP)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+ Bezugskosten (Bko)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ezugspreis (BP)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1143000"/>
            <a:ext cx="533412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1143000"/>
            <a:ext cx="5257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ruttomenge (Stück, Meter, Kg, Liter usw.)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Mengenabzüge (Tara, Gutgewicht, Leckage)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= Nettomenge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9810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81" name=""/>
          <p:cNvSpPr/>
          <p:nvPr/>
        </p:nvSpPr>
        <p:spPr>
          <a:xfrm>
            <a:off x="4114800" y="2743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388620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47242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5562720"/>
            <a:ext cx="586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85" name=""/>
          <p:cNvSpPr/>
          <p:nvPr/>
        </p:nvSpPr>
        <p:spPr>
          <a:xfrm>
            <a:off x="4191120" y="3124080"/>
            <a:ext cx="25905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n % von LEP)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n % von ZEP)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380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V. Kostenträgerrechnung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8380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Aufgaben der Kostenträgerrechnung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676520"/>
            <a:ext cx="68580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1.2. Kostenträger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zei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hnung</a:t>
            </a: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Periodenrechnung</a:t>
            </a: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für sämtliche Kosten/(Leistungen)</a:t>
            </a: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der verschiedenen Produktarten</a:t>
            </a: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638680"/>
            <a:ext cx="914400" cy="228600"/>
          </a:xfrm>
          <a:custGeom>
            <a:avLst/>
            <a:gdLst>
              <a:gd name="textAreaLeft" fmla="*/ 142920 w 914400"/>
              <a:gd name="textAreaRight" fmla="*/ 800280 w 9144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5257800"/>
            <a:ext cx="5333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urzfristige Erfolgsrechnung/</a:t>
            </a: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triebsergebnisrechnung</a:t>
            </a: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5800" y="3808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zugskalkulation</a:t>
            </a:r>
            <a:endParaRPr b="0" lang="en-US" sz="16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914400"/>
            <a:ext cx="800100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eispiel: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in Großhändler benötigt 4.500 kg einer Ware. Zwei Angebote liegen vor: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ieferant A: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100 Kg netto verpackungsfrei und frei Haus zu € 175 (+ 16 % Ust) zahlbar netto Kasse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ieferant B: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100 kg bfn (brutto für netto) zu € 150 (+ 16 % Ust), 10 % Tara vom Bruttogewicht, Zahlung in 30 Tagen netto Kasse oder in 10 Tagen/3% Skonto. Lieferung ab Versandbahnhof, Fracht je 100 kg € 12,-, Rollgeld  € 301,50 (netto) für die gesamte Lieferung.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engenrabatte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b 3.000 kg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4%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b 4.000 kg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b 5.000 kg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b 6.000 kg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7%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lches Angebot ist günstiger für den Großhändler?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38080" y="4572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4.2. Absatzkalkulation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89" name=""/>
          <p:cNvSpPr/>
          <p:nvPr/>
        </p:nvSpPr>
        <p:spPr>
          <a:xfrm>
            <a:off x="2895480" y="2057400"/>
            <a:ext cx="3505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3505320"/>
            <a:ext cx="22096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350532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zkalkulation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92" name=""/>
          <p:cNvSpPr/>
          <p:nvPr/>
        </p:nvSpPr>
        <p:spPr>
          <a:xfrm>
            <a:off x="6629400" y="3505320"/>
            <a:ext cx="22860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21337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satzkalkulation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980720" y="2666880"/>
            <a:ext cx="26672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666880"/>
            <a:ext cx="1522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2666880"/>
            <a:ext cx="32004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36576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orwärtskalkulation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98" name=""/>
          <p:cNvSpPr/>
          <p:nvPr/>
        </p:nvSpPr>
        <p:spPr>
          <a:xfrm>
            <a:off x="6629400" y="3657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ückwärtskalkulation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4572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atzkalkulation</a:t>
            </a:r>
            <a:endParaRPr b="0" lang="en-US" sz="16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00" name=""/>
          <p:cNvSpPr/>
          <p:nvPr/>
        </p:nvSpPr>
        <p:spPr>
          <a:xfrm>
            <a:off x="1143000" y="1447920"/>
            <a:ext cx="6019920" cy="4800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01" name=""/>
          <p:cNvSpPr/>
          <p:nvPr/>
        </p:nvSpPr>
        <p:spPr>
          <a:xfrm>
            <a:off x="1371600" y="1523880"/>
            <a:ext cx="29718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ezugspreis (Bp)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+ Handlungskosten (Hko)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elbstkostenpreis (SKP)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+ Gewinn (Gew)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arverkaufspreis (BVP)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+ Kundenskonto (Ksk)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Zielverkaufspreis (ZVP)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+ Kundenrabatt (Krab)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istenverkaufspreis (LVP)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+ Umsatzsteuer (Ust)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uszeichnungspreis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1523880"/>
            <a:ext cx="304812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n % von BP)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n % von SKP)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n % von ZVP)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n % von LVP)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n % von LVP)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03" name=""/>
          <p:cNvSpPr/>
          <p:nvPr/>
        </p:nvSpPr>
        <p:spPr>
          <a:xfrm>
            <a:off x="4191120" y="1447920"/>
            <a:ext cx="0" cy="480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04" name=""/>
          <p:cNvSpPr/>
          <p:nvPr/>
        </p:nvSpPr>
        <p:spPr>
          <a:xfrm>
            <a:off x="1143000" y="236232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05" name=""/>
          <p:cNvSpPr/>
          <p:nvPr/>
        </p:nvSpPr>
        <p:spPr>
          <a:xfrm>
            <a:off x="1143000" y="320040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40384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487692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6386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80880" y="3808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orwärtskalkulation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914400"/>
            <a:ext cx="7848360" cy="64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eispiel: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Großhändler, der seine ware für € 172/100 kg bezogen hat, will mit Hilfe einer Vorwärtskalkulation den Listenpreis für 100 kg ermitteln. Er muß seinen Kunden folgende Bedingungen einräumen: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 % Kundenskonto für 30 Tage oder 30 Tage netto und 8 % Kundenrabatt, Gewinnaufschlag: 12 %; der Handlungskostensatz wird aus der Gewinn- und Verlustrechnung des letzten Monats ermittelt: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ufwand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uV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rtrag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Umsatz zu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Umsatz zu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instandspreisen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180.000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erkaufspreisen     230.000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hälter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nergiekosten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39.600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bschreibungen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Zinsen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winn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10.400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30.000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30.000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358128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358128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13" name=""/>
          <p:cNvSpPr/>
          <p:nvPr/>
        </p:nvSpPr>
        <p:spPr>
          <a:xfrm>
            <a:off x="3048120" y="64771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0" y="64771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914400" y="914400"/>
            <a:ext cx="73152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enverkaufspreis - Bezugspreis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alkulationszuschlag =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zugspreis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enverkaufspreis (LVP)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alkulationsfaktor  =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zugspreis (BP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19051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17" name=""/>
          <p:cNvSpPr/>
          <p:nvPr/>
        </p:nvSpPr>
        <p:spPr>
          <a:xfrm>
            <a:off x="4648320" y="48006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09480" y="685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ückwärtskalkulation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198108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nn für den Großhändler der Listenverkaufspreis nicht beeinflußbar ist, muß er mit der Rückwärtskalkulation ermitteln, welchen Bezugspreis (Listeneinkaufspreis) er vom Lieferanten höchstens akzeptieren kann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3352680"/>
            <a:ext cx="83059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ispiel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r Großhändler kann seinen Kunden einen Karton Bockwurst (12 Dosen) zu € 35 netto anbieten. Er muss seinen Kunden 2% Kundenskonto und 8% Kundenrabatt einräumen. Vom Lieferanten erhält er 15% Liefererrabatt und 3% Liefererskonto, die Bezugskosten je Karton betragen € 1,60. Er kalkuliert mit einem Gewinnaufschlag von 12% und einem Handlungskostensatz von 22%.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u welchem Listeneinkaufspreis darf der Großhändler den Karton Bockwurst höchstens beziehen?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14400" y="5335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zkalkulation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160020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e für den Händler unangenehmste Situation ist dann gegeben, wenn er weder den Einkaufs- noch den Verkaufspreis beeinflussen kann. In diesem Falle bleibt ihm nur die Möglichkeit, zu überprüfen, ob ein ausreichender Gewinn übrigbleibt.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23" name=""/>
          <p:cNvSpPr/>
          <p:nvPr/>
        </p:nvSpPr>
        <p:spPr>
          <a:xfrm>
            <a:off x="990720" y="3191040"/>
            <a:ext cx="746748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ispiel: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m Großhändler wird ein empfohlener Markenartikel zu € 26,50 netto (Endverbraucherpreis € 30,74) mit 35% Wiederverkäuferrabatt und 3% Liefererskonto angeboten. Die anteiligen Bezugskosten betragen € 1,30 netto pro Stück. An den anderen Bedingungen hat sich nichts geändert: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ndlungskost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%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undenskon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2%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undenrabat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8%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lcher Gewinn verbleibt in € und % ?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33520" y="1676520"/>
            <a:ext cx="77724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kaufspreis - Einstandspreis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ndelsspanne   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* 100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kaufspreis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der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hertrag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ndelsspanne   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* 100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kaufspreis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25" name=""/>
          <p:cNvSpPr/>
          <p:nvPr/>
        </p:nvSpPr>
        <p:spPr>
          <a:xfrm>
            <a:off x="2819520" y="22096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26" name=""/>
          <p:cNvSpPr/>
          <p:nvPr/>
        </p:nvSpPr>
        <p:spPr>
          <a:xfrm>
            <a:off x="3352680" y="47242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4572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rmittlung der Handelsspanne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838080" y="0"/>
            <a:ext cx="6782040" cy="66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Zusammenfassendes Beispiel für die Kennzahlen: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erkaufsprei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instandsprei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ohgewinn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50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= Handlungskosten inkl. Gewinn)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150 - 100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Kalkulationszuschlag =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=   50 %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Kalkulationsfaktor   =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=  1,5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100  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150 - 100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ndelsspanne    =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= 33,33 %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150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29" name=""/>
          <p:cNvSpPr/>
          <p:nvPr/>
        </p:nvSpPr>
        <p:spPr>
          <a:xfrm>
            <a:off x="34290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30" name=""/>
          <p:cNvSpPr/>
          <p:nvPr/>
        </p:nvSpPr>
        <p:spPr>
          <a:xfrm>
            <a:off x="3505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5943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32" name=""/>
          <p:cNvSpPr/>
          <p:nvPr/>
        </p:nvSpPr>
        <p:spPr>
          <a:xfrm>
            <a:off x="914400" y="12193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457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V. Kostenträgerrechnung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83808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Aufgaben der Kostenträgerrechnung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828800"/>
            <a:ext cx="68580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2. Kostenträger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üc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hnung (Kalkulation)</a:t>
            </a: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Vorkalkulation</a:t>
            </a: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Zwischenkalkulation</a:t>
            </a: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Nachkalkulation</a:t>
            </a: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858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V. Kostenträgerrechnung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990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3. Kalkulationsverfahren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523880"/>
            <a:ext cx="213336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zeugnisvielfalt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1523880"/>
            <a:ext cx="20574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rtigungstyp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1447920"/>
            <a:ext cx="25909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alkulationsverfahren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2209680"/>
            <a:ext cx="1981080" cy="609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in einziges Produkt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2209680"/>
            <a:ext cx="1981440" cy="609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ssenfertigung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62" name=""/>
          <p:cNvSpPr/>
          <p:nvPr/>
        </p:nvSpPr>
        <p:spPr>
          <a:xfrm>
            <a:off x="5943600" y="2133720"/>
            <a:ext cx="251460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visionskalkulation 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ein-,zwei-,mehrstufig)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2971800"/>
            <a:ext cx="190476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ine Produktart in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hreren Sorten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3048120"/>
            <a:ext cx="182880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rtenfertigung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65" name=""/>
          <p:cNvSpPr/>
          <p:nvPr/>
        </p:nvSpPr>
        <p:spPr>
          <a:xfrm>
            <a:off x="6172200" y="3048120"/>
            <a:ext cx="220968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Äquivalenzziffern-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kalkulation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einfach/kombiniert)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4038480"/>
            <a:ext cx="1828800" cy="990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terschiedliche 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zeugnisse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4191120"/>
            <a:ext cx="2057400" cy="685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ienfertigung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68" name=""/>
          <p:cNvSpPr/>
          <p:nvPr/>
        </p:nvSpPr>
        <p:spPr>
          <a:xfrm>
            <a:off x="6019920" y="4114800"/>
            <a:ext cx="2590560" cy="990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uschlagskalkulation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schinenstundensatz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zugsgrößen he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23623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44197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71" name=""/>
          <p:cNvSpPr/>
          <p:nvPr/>
        </p:nvSpPr>
        <p:spPr>
          <a:xfrm>
            <a:off x="5486400" y="32767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72" name=""/>
          <p:cNvSpPr/>
          <p:nvPr/>
        </p:nvSpPr>
        <p:spPr>
          <a:xfrm>
            <a:off x="5562720" y="44197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5334120"/>
            <a:ext cx="1905120" cy="685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ftragsspezifische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kte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5257800"/>
            <a:ext cx="190512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inzelfertigung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75" name=""/>
          <p:cNvSpPr/>
          <p:nvPr/>
        </p:nvSpPr>
        <p:spPr>
          <a:xfrm>
            <a:off x="6324480" y="6019920"/>
            <a:ext cx="2362320" cy="685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stwert- /Verteilungs-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chnung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6324480"/>
            <a:ext cx="182880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uppelprodukte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6248520"/>
            <a:ext cx="220968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uppelfertigung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78" name=""/>
          <p:cNvSpPr/>
          <p:nvPr/>
        </p:nvSpPr>
        <p:spPr>
          <a:xfrm>
            <a:off x="2895480" y="5486400"/>
            <a:ext cx="381240" cy="304920"/>
          </a:xfrm>
          <a:prstGeom prst="rightArrow">
            <a:avLst>
              <a:gd name="adj1" fmla="val 50000"/>
              <a:gd name="adj2" fmla="val 312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79" name=""/>
          <p:cNvSpPr/>
          <p:nvPr/>
        </p:nvSpPr>
        <p:spPr>
          <a:xfrm>
            <a:off x="5562720" y="5410080"/>
            <a:ext cx="1828800" cy="228600"/>
          </a:xfrm>
          <a:custGeom>
            <a:avLst/>
            <a:gdLst>
              <a:gd name="textAreaLeft" fmla="*/ 609480 w 1828800"/>
              <a:gd name="textAreaRight" fmla="*/ 1566360 w 1828800"/>
              <a:gd name="textAreaTop" fmla="*/ 131760 h 228600"/>
              <a:gd name="textAreaBottom" fmla="*/ 195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63244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63244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82" name=""/>
          <p:cNvSpPr/>
          <p:nvPr/>
        </p:nvSpPr>
        <p:spPr>
          <a:xfrm>
            <a:off x="2819520" y="24382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32767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228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V. Kostenträgerrechnung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60948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3. Kalkulationsverfahren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21932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1.3.1. Einstufige Divisionskalkulation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905120"/>
            <a:ext cx="7315200" cy="36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Voraussetzungen:</a:t>
            </a: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Einproduktunternehmen: Gleichartige Produkte in Massenfertigung</a:t>
            </a: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Keine Lagerbestandsveränderungen bei unfertigen Erzeugnissen, oder                   </a:t>
            </a: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die Bestände in den Zwischenlägern bleibt konstant</a:t>
            </a: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Keine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Kostenstellenrechnung</a:t>
            </a: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502920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495288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satzmenge                     Produktionsmenge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5029200"/>
            <a:ext cx="609480" cy="152280"/>
          </a:xfrm>
          <a:prstGeom prst="leftRightArrow">
            <a:avLst>
              <a:gd name="adj1" fmla="val 50000"/>
              <a:gd name="adj2" fmla="val 796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59421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Die Kosten des gesamten Unternehmens bzw. eines Teilbereichs der Abrechnungsperiode werden durch die entsprechenden Erzeugnismengen dividiert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556272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urchführung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s57" descr=""/>
          <p:cNvPicPr/>
          <p:nvPr/>
        </p:nvPicPr>
        <p:blipFill>
          <a:blip r:embed="rId1"/>
          <a:stretch/>
        </p:blipFill>
        <p:spPr>
          <a:xfrm>
            <a:off x="609480" y="1071720"/>
            <a:ext cx="76201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457200"/>
            <a:ext cx="601956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V. Kostenrechnung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.3.2. Zweistufige Divisionskalkulation</a:t>
            </a: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828800"/>
            <a:ext cx="66294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Voraussetzungen:</a:t>
            </a: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Einproduktunternehmen </a:t>
            </a: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konstante Lagerbestände bei unfertigen    </a:t>
            </a: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Erzeugnissen</a:t>
            </a: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keine getrennte Erfassung von Einzel- und Gemeinkosten</a:t>
            </a: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ber: Verwaltungs- und Vertriebskosten</a:t>
            </a: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53341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ückselbstkosten  =</a:t>
            </a:r>
            <a:endParaRPr b="0" lang="en-US" sz="20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5105520"/>
            <a:ext cx="2210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rstellkosten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uktionsmenge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5334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4724280"/>
            <a:ext cx="327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Verwaltungs- und Vertriebs-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gemeinkosten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bsatzmenge</a:t>
            </a:r>
            <a:endParaRPr b="0" lang="en-US" sz="18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00" name=""/>
          <p:cNvSpPr/>
          <p:nvPr/>
        </p:nvSpPr>
        <p:spPr>
          <a:xfrm>
            <a:off x="6019920" y="5486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01" name=""/>
          <p:cNvSpPr/>
          <p:nvPr/>
        </p:nvSpPr>
        <p:spPr>
          <a:xfrm>
            <a:off x="3200400" y="54864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S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s58" descr=""/>
          <p:cNvPicPr/>
          <p:nvPr/>
        </p:nvPicPr>
        <p:blipFill>
          <a:blip r:embed="rId1"/>
          <a:stretch/>
        </p:blipFill>
        <p:spPr>
          <a:xfrm>
            <a:off x="1219320" y="825480"/>
            <a:ext cx="716256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21:29:11Z</dcterms:created>
  <dc:creator>Administrator</dc:creator>
  <dc:description/>
  <dc:language>en-US</dc:language>
  <cp:lastModifiedBy>Administrator</cp:lastModifiedBy>
  <dcterms:modified xsi:type="dcterms:W3CDTF">2002-03-24T16:17:57Z</dcterms:modified>
  <cp:revision>65</cp:revision>
  <dc:subject/>
  <dc:title>Kein Folientitel</dc:title>
</cp:coreProperties>
</file>