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2C8-C11F-4342-9C0A-002D1864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973-700F-4215-9555-0BA02FDA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AA6-4484-4DC4-B8BB-FC483D84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B51-7E66-492C-A910-6538BED7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991-98F2-4E5F-AD93-21EBF7EF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F05-6C4D-49F0-8D69-97908E97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7F3-71DA-4C16-987A-15D9FB3F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E06-CB13-4D64-8D5C-B4545700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11F-A71D-4C59-8F16-CA35FC0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223-B22B-4C3B-9F73-B8938574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377-2853-4DE2-A63B-3D178D8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F1D-1DFC-49F5-81B0-2FF1CFB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A4B3-60BF-4278-9B56-4CCC0E58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371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Grund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1. Ziele und Aufgaben der Kostenstellen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5053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Kontrolle der Wirtschaftlichkeit (Kostenkontro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emeinkostenverrech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über die Kostenstellen auf das Produ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09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eilung der primären Gemei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124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 de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ursachungsprin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Direkte Me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 Belegen direkt auf eine Kostenstelle zugeor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rekte Me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 Umlageschlüssel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200400"/>
            <a:ext cx="914400" cy="4572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42" descr=""/>
          <p:cNvPicPr/>
          <p:nvPr/>
        </p:nvPicPr>
        <p:blipFill>
          <a:blip r:embed="rId1"/>
          <a:stretch/>
        </p:blipFill>
        <p:spPr>
          <a:xfrm>
            <a:off x="838080" y="1349280"/>
            <a:ext cx="769644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eilung der Gemei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9436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lageschlü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191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038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üsselgröß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4572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por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rtschlü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Mengenschlü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44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257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867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kundären Gemeinkosten der Hauptkost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67816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nerbetriebliche Leistungsver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Verteilung der Kosten der Hilfskostenstel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114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märe Gemeinkosten der Hilfskosten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87692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88620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bau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tufenleiter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leichungs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514600"/>
            <a:ext cx="67816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nerbetriebliche Leistungsver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Verteilung der Kosten der Hilfskostenstel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45a" descr=""/>
          <p:cNvPicPr/>
          <p:nvPr/>
        </p:nvPicPr>
        <p:blipFill>
          <a:blip r:embed="rId1"/>
          <a:stretch/>
        </p:blipFill>
        <p:spPr>
          <a:xfrm>
            <a:off x="533520" y="1093680"/>
            <a:ext cx="83818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45b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763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46a" descr=""/>
          <p:cNvPicPr/>
          <p:nvPr/>
        </p:nvPicPr>
        <p:blipFill>
          <a:blip r:embed="rId1"/>
          <a:stretch/>
        </p:blipFill>
        <p:spPr>
          <a:xfrm>
            <a:off x="762120" y="2257560"/>
            <a:ext cx="761976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523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2. Organisations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36232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grif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stenstelle  = Ort der Kostenentstehung bzw. betrieblicher Teilbereich, der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selbständig abgerechnet wird (Kontierungseinhe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Kennzeichen einer Kostenstel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elbständiger Verantwortungsbereich ohne Kompetenzüberschneid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mit möglichst genauen Maßgrößen der Kostenverursa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Kostenbelege müssen sich möglichst genau und einfach kontieren la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46b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3818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46c" descr=""/>
          <p:cNvPicPr/>
          <p:nvPr/>
        </p:nvPicPr>
        <p:blipFill>
          <a:blip r:embed="rId1"/>
          <a:stretch/>
        </p:blipFill>
        <p:spPr>
          <a:xfrm>
            <a:off x="152280" y="2203560"/>
            <a:ext cx="87631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47a" descr=""/>
          <p:cNvPicPr/>
          <p:nvPr/>
        </p:nvPicPr>
        <p:blipFill>
          <a:blip r:embed="rId1"/>
          <a:stretch/>
        </p:blipFill>
        <p:spPr>
          <a:xfrm>
            <a:off x="838080" y="1347840"/>
            <a:ext cx="75438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47b" descr=""/>
          <p:cNvPicPr/>
          <p:nvPr/>
        </p:nvPicPr>
        <p:blipFill>
          <a:blip r:embed="rId1"/>
          <a:stretch/>
        </p:blipFill>
        <p:spPr>
          <a:xfrm>
            <a:off x="152280" y="2185920"/>
            <a:ext cx="86108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47c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61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47d" descr=""/>
          <p:cNvPicPr/>
          <p:nvPr/>
        </p:nvPicPr>
        <p:blipFill>
          <a:blip r:embed="rId1"/>
          <a:stretch/>
        </p:blipFill>
        <p:spPr>
          <a:xfrm>
            <a:off x="533520" y="2176560"/>
            <a:ext cx="82296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48a" descr=""/>
          <p:cNvPicPr/>
          <p:nvPr/>
        </p:nvPicPr>
        <p:blipFill>
          <a:blip r:embed="rId1"/>
          <a:stretch/>
        </p:blipFill>
        <p:spPr>
          <a:xfrm>
            <a:off x="533520" y="1182600"/>
            <a:ext cx="822960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48b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48c" descr=""/>
          <p:cNvPicPr/>
          <p:nvPr/>
        </p:nvPicPr>
        <p:blipFill>
          <a:blip r:embed="rId1"/>
          <a:stretch/>
        </p:blipFill>
        <p:spPr>
          <a:xfrm>
            <a:off x="609480" y="1585800"/>
            <a:ext cx="82296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286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dung von Kalkulations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276720"/>
            <a:ext cx="7391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deglied zwischen Kostenstellen- und  Kostenträger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ls Vergleichsmaßstab zur Kostenkont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562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lkulationssatz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410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meinkosten der Kostenstelle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867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zugsgröße der Stel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23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2. Organsiations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362320"/>
            <a:ext cx="82296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terscheidung der Kostenstellen n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nktion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Tätigkeitsbereiche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Material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Fertigungs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Vertriebs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Verwaltungs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llgemeine Kosten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152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52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533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dung von Kalkulationssätzen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9810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rstellko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 Umsatz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2201760"/>
            <a:ext cx="5181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einzel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terialgemei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aterial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gungslöh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Fertigungsgemei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Sondereinzelkosten der Fert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gungs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/- Bestandsveränderungen bei fertigen und unfertigen Erzeug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0"/>
            <a:ext cx="7391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dung von Kalkulations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505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gungsgemeinkostenzuschlagssatz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4191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amte Gemeinkosten d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Fertigungskosten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502920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amte Fertigungs-einzelkosten (Fertigungs-löhne) der Fertigungs-kosten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286000"/>
            <a:ext cx="7391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dung von Kalkulations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114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chinenstundensatz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32767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chinenabhängige Gemeinkosten d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Fertigungskosten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4419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leistete Maschinenstunden der Fertigungskosten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286000"/>
            <a:ext cx="7391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dung von Kalkulations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352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riebsgemei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uschlagssatz          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32767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amte Gemeinkosten d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Vertriebskosten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4114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stellkosten des Umsat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312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572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7391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dung von Kalkulationss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352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waltungsgemein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uschlagssatz          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2767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amte Gemeinkosten d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Verwaltungskosten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4114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stellkosten des Umsat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362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38" descr=""/>
          <p:cNvPicPr/>
          <p:nvPr/>
        </p:nvPicPr>
        <p:blipFill>
          <a:blip r:embed="rId1"/>
          <a:stretch/>
        </p:blipFill>
        <p:spPr>
          <a:xfrm>
            <a:off x="2332080" y="152280"/>
            <a:ext cx="490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00200"/>
            <a:ext cx="5715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1.2.2. Durchführung der Kostenstellen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ntw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uf Konten geb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tatistisch/tabellarisch erfaß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334120"/>
            <a:ext cx="838440" cy="228600"/>
          </a:xfrm>
          <a:custGeom>
            <a:avLst/>
            <a:gdLst>
              <a:gd name="textAreaLeft" fmla="*/ 10476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181480"/>
            <a:ext cx="32004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etriebsabrechnungsbo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41" descr=""/>
          <p:cNvPicPr/>
          <p:nvPr/>
        </p:nvPicPr>
        <p:blipFill>
          <a:blip r:embed="rId1"/>
          <a:stretch/>
        </p:blipFill>
        <p:spPr>
          <a:xfrm>
            <a:off x="114480" y="1300320"/>
            <a:ext cx="8913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5146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und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BAB werden n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meinkost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errech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029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zelkosten werden nur dann zugeordnet, wenn sie 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zugsb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braucht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457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600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.3. Der Betriebsabrechnungsb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743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e (primären) Gemein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27432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s der Kostenarten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2004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f die Hilfs- und Hauptkostenstelle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27672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962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lfskosten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114800"/>
            <a:ext cx="533520" cy="152280"/>
          </a:xfrm>
          <a:custGeom>
            <a:avLst/>
            <a:gdLst>
              <a:gd name="textAreaLeft" fmla="*/ 8316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962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uptkosten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44956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nerbetriebliche Leistungsverrechnung) - sekundäre Gemein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rgehenswe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105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dung von Zuschlagssä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5638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meinkosten müssen sich möglich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rtio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ur Bezugsgröße verha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42:28Z</dcterms:created>
  <dc:creator>Administrator</dc:creator>
  <dc:description/>
  <dc:language>en-US</dc:language>
  <cp:lastModifiedBy>Administrator</cp:lastModifiedBy>
  <dcterms:modified xsi:type="dcterms:W3CDTF">2002-03-24T13:44:53Z</dcterms:modified>
  <cp:revision>47</cp:revision>
  <dc:subject/>
  <dc:title>Kein Folientitel</dc:title>
</cp:coreProperties>
</file>