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24A-3CD8-418B-AE3D-67D6AE2C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649-0C56-4613-8C0E-0A80A7E2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FE50-A80D-4DF9-BAC7-6001F582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DEB-558F-416D-B3F9-81301D7C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2AE-46C8-40EB-BA63-B83D2EFF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D6F-641D-472B-8688-51D93AAE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16E-8451-473D-A3FC-1B23554B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396-3F57-42E9-B237-4CB3DDF0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393-F54A-4061-8CD1-B5A0CE45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0E1-85CA-4B54-A58B-9895BE09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906-8886-4338-BE51-5BBE64A2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1B1-E4C6-4D5E-AD59-2CE17BCE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E135-F734-4DCC-999F-F7F885B88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I. Kostenar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24" descr=""/>
          <p:cNvPicPr/>
          <p:nvPr/>
        </p:nvPicPr>
        <p:blipFill>
          <a:blip r:embed="rId1"/>
          <a:stretch/>
        </p:blipFill>
        <p:spPr>
          <a:xfrm>
            <a:off x="1066680" y="3433680"/>
            <a:ext cx="7315200" cy="343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990720"/>
            <a:ext cx="76201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1.1. Abrechnungstechnische Auf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Erfassung und Aufbereitung sämtlicher (Ist-)Kosten der Periode für in 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eriode im Unternehmen hergestellten und/oder abgesetzten Erzeugn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4572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I. Kostenar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 Erfassung zentraler Kosten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371600"/>
            <a:ext cx="784836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2. Personalk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rundsätzli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lle Kosten, die durch den Einsatz des Produktionsfaktors Arbeit mittelbar und unmittelbar entstanden si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2.2.1. Löhne und Gehä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ttolöhne bzw. -gehälter, inklusive der Arbeit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be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ranteile zur Sozialversich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rfassung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durch Lohnscheine, Stempelkarten, Stundenzettel, Lohnlisten us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inzelkosten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: Fertigungslöhne, die unmittelbar bei der Herstellung der einzelnen Produkte anf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meinkosten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: Hilfslöhne (Gemeinkostenlöhne) für unterstützende Arbei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114800"/>
            <a:ext cx="533160" cy="76320"/>
          </a:xfrm>
          <a:prstGeom prst="rightArrow">
            <a:avLst>
              <a:gd name="adj1" fmla="val 50000"/>
              <a:gd name="adj2" fmla="val 174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572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I. Kostenar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 Erfassung zentraler Kosten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371600"/>
            <a:ext cx="78483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2. Personal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2.1. Löhne und Gehä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rt der Entlohn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eitlo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kordlo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ämienlo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419720"/>
            <a:ext cx="533520" cy="152280"/>
          </a:xfrm>
          <a:custGeom>
            <a:avLst/>
            <a:gdLst>
              <a:gd name="textAreaLeft" fmla="*/ 66600 w 533520"/>
              <a:gd name="textAreaRight" fmla="*/ 466920 w 5335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5257800"/>
            <a:ext cx="457200" cy="152280"/>
          </a:xfrm>
          <a:custGeom>
            <a:avLst/>
            <a:gdLst>
              <a:gd name="textAreaLeft" fmla="*/ 568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581280"/>
            <a:ext cx="533520" cy="152640"/>
          </a:xfrm>
          <a:custGeom>
            <a:avLst/>
            <a:gdLst>
              <a:gd name="textAreaLeft" fmla="*/ 66600 w 533520"/>
              <a:gd name="textAreaRight" fmla="*/ 466920 w 53352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4572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I. Kostenar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 Erfassung zentraler Kosten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057400"/>
            <a:ext cx="784836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2.2. Personal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2.2.1. Löhne und Gehä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hä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ttogehälter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meinkosten, den Kostenstellen zuzuordnen, in denen der Gehaltsempfänger arbei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4419720"/>
            <a:ext cx="762120" cy="152280"/>
          </a:xfrm>
          <a:custGeom>
            <a:avLst/>
            <a:gdLst>
              <a:gd name="textAreaLeft" fmla="*/ 95040 w 762120"/>
              <a:gd name="textAreaRight" fmla="*/ 667080 w 7621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4572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I. Kostenar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 Erfassung zentraler Kosten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057400"/>
            <a:ext cx="784836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2.2. Personalk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2.2.2. Personal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neben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rbeitnehmer- und Arbeitgeberanteil zu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Krank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Rent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Arbeitslosen- 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flegeversich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Berufsgenossenschaftsbeiträ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oziallöhne z.B. Lohnfortzahlung im Krankeitsfall, Urlaubs- un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eiertagslo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4572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I. Kostenar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 Erfassung zentraler Kosten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133720"/>
            <a:ext cx="784872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2.2. Personalk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2.2.2. Personal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neben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emessungsgrundlagen der Sozialversich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962520"/>
            <a:ext cx="7848360" cy="259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7040" y="4724280"/>
            <a:ext cx="25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rankenversich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ntenversich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rbeitslosenversich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flegeversich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343400"/>
            <a:ext cx="190512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tragssätze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Ca. 14,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9,1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6,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,7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4038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tragsbemessungsgrenze (mtl.) alte Bundeslä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724280"/>
            <a:ext cx="2590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Euro 3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Euro 4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Euro 4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Euro 3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5335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3.  Kalkulatorische 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9907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iel: Ermittlung des „richtigen“ Werteverzehrs an Produktionsfakto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716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3.1. Kalkulatorische Abschreib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286000"/>
            <a:ext cx="8686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3.2. Kalkulatorische Zin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s Eigenkapital verursacht keine Zinszahlungen, aber Nutzenentg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insen einer anderweitigen Anlage (Opportunitätskost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Nur für Betriebsnotwendiges Kapit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triebsnotwendiges Vermögen - Abzugskapital (zinsfreies Fremdkapi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erzinsung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Restwertverzinsung(Zinsen vom kalkulatorischen Restwert am Ende der  Periode     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Durchschnittswertverzinsung ( Zinsen vom halben Ausgangswer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inssatz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ins für langfristige Ausleih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32004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4572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2.3. Kalkulatorische 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534520" cy="58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3.3. Kalkulatorische Wag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ü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spezielle (betriebsbedingt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 Wagnis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 Zusammenhang mit der betriebliche Leistungserstel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.B. Lagerverluste, Gewährleistungswagnis, Forderungsverluste, Wechselkursänder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agnissa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it statistischen und wahrscheinlichkeitstheoretischen Überlegungen ermittel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it Erfahrungen aus der Vergangenheit über Wagnisverl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.B. Gewährleistungsaufwand der letzten 5 Jahre betrug insgesamt Euro 30.000,-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e Selbstkosten des Umsatzes für den gleichen Zeitraum Euro 1.000.000,-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agnissatz beträgt: 3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s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allgemein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Unternehmerwagnis (Konjunktur, Inflation, techn. Fortschritt, Nachfrageänderungen) sollten durch den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Gewin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abgedeckt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4572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2.3. Kalkulatorische 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676520"/>
            <a:ext cx="85345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3.4. Sonstige kalkulatorische 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3.4.1. Kalkulatorischer Unternehmerlo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i Einzelunternehmen oder Personengesellschaften wird für die Arbeitsleistung der Inhaber kein Gehalt gezahlt, sondern Gewinn ausgeschütt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3.4.2. Kalkulatorische Mi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i Einzelunternehmen oder Personengesellschaften wird für private Räume, die das Unternehmen nutzt, keine Miete gezah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2286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.3. Kalkulatorische Ko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295280"/>
            <a:ext cx="3276360" cy="44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aterialko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- Rohstof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- Hilfsstof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- fremdbezogene Te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- Handelswa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ersonalko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- Löh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- Gehälter, Provisionen, Tantie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- Personalnebenko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- Überstunden, Nacht-, Sonn- und Feiertagszuschlä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- Nacharbeit, Wartezei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Kalkulatorische Kostenar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Dienst- und Fremdleist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838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osten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838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leg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1295280"/>
            <a:ext cx="449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Materialbuchhaltung: Lagerkartei, Bestandsrech-nungen, Lagerzu- und -abgangsbelege, Belege der Finanzbuchhal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2971800"/>
            <a:ext cx="4648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Lohn- und Gehaltsabbrechnung: Stundenaufschreibungen, Magnetkarten, Stempelkarten, Belege der Finanzbuchhal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5029200"/>
            <a:ext cx="48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nlagenkartei, interne Kostenrechnungsbe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541008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Rechnungen, Zahlungsanweisungen, Kostenverteilungsbelege, Belege der Finanzbuchhal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457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I. Kostenar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19320"/>
            <a:ext cx="80773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1.2. Informationszw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Bereitstellung der Kostendaten für die nachgelagerten Kostenstellen- und Kostenträgerrechnung für Kalkulation und Kostenkontro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89548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1.3. Organisationsmit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ie Weiterverarbeitung setzt eine zweckmäßige Struktur vora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962520"/>
            <a:ext cx="838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03848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886200"/>
            <a:ext cx="63244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Kostenartenrechnung erfasst nur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märe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Kost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Material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ersonal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Anlagen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Dienstleistungs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Kapital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usw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457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I. Kostenarten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8380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.3. Organisationsmit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962520"/>
            <a:ext cx="838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63248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Untergliederung in betriebliche Funktionsbereic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Kosten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ufteilung nach Produkt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Kostenträger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743200"/>
            <a:ext cx="533520" cy="533520"/>
          </a:xfrm>
          <a:custGeom>
            <a:avLst/>
            <a:gdLst>
              <a:gd name="textAreaLeft" fmla="*/ 71280 w 533520"/>
              <a:gd name="textAreaRight" fmla="*/ 462240 w 53352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434340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457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I. Kostenar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066680"/>
            <a:ext cx="84582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1.3. Organisationsmi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Keine zwingenden Vorschriften für die Gestaltung, den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Jedes Unternehmen hat unterschiedliche Anforder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Kontierungsrichtlin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Hilfsmittel für die Strukturier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Gemeinschaftskontenrahmen der Industrie (GKR): Kontenklass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Industriekontenrahmen (IKR): Kontenklasse 9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Voraussetzungen für einen unternehmensspezifischen Kostenartenpla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Vollständigkeit (sämtlicher anfallender Kost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Eindeutigkeit 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Überschneidungsfreiheit (jeweilige Kosten können nur einer Kostenart zugeord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werd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962520"/>
            <a:ext cx="838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752480"/>
            <a:ext cx="6324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198108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76720" y="152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ostenartenplan (Auszu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42800"/>
            <a:ext cx="289548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0/41 Material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0 Materialeinzel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01/402 Einsatzstof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03/404 Fertigungsstof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1 Gemeinkosten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10/411 Hilfsstof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312/415 Betriebstof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17/419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2 Brennstoffe, En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20 Brenn- und Treibstof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29 Ener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3/44 Personal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3 Löhne und Gehä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31 Fertigungslöh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32 Gemeinkostenlöh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39 Gehä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534960"/>
            <a:ext cx="3124080" cy="66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4 Sozial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40 Gesetzliche Sozialko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41 Freiwillige Sozialko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48 andere Personalko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5 Instandhal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6 Steuern, Abgaben, Gebü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60 Vermögen, Grundst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61 Gewerbe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64 Abgaben und Gebüh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69 Versicherungsbeiträ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7 Mieten, Verkehrs-, Büro, Werbe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70 Raummie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71 Maschinenmie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72 Allgemeine Transport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73 Versand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57200"/>
            <a:ext cx="281952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8 Kalkulatorische 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80 Kalk. Abschreib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81 Kalk. Zin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82 kalk. Wagn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83 Kalk. Unternehmerl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84 Sonst. kalk. 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9 Innerbetriebliche Leistungsverrechnung, Sondereinzel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90 Sondereinzelkosten der Fertigung und des Vertrie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95 Innerbetriebliche Leistungsver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4572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I. Kostenar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 Erfassung zentraler Kosten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600200"/>
            <a:ext cx="7848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2.1.1. Erfassung der Materialverbrauchsme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Grundsätzli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rimäre Materialkosten: Verbrauch von Roh-, Hilfs- und Betriebsstof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irekt zurechenbare Material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einzelkosten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: Rohstoffe und fremdbezogene Te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Gemeinkosten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: Hilfs- und Betriebsstof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Hilfsstoffe              gehen in das Erzeugnis mit ein, haben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inzelkostencharakter,  aber aus Wirtschaftlichkeits-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gründen als Gemeinkosten erfas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Betriebsstoffe        gehen nicht in das Erzeugnis ein, sie dienen der              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urchführung und Inganghaltung des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roduktionsprozess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ie Gemeinkosten werden in den jeweiligen Kostenstellen erfasst.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4572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i. Kostenar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 Erfassung zentraler Kosten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371600"/>
            <a:ext cx="78483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1.1. Erfassung der Materialverbrauchsme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thoden der Erfassung von Verbrauchsme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Zugangsmeth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Inventurmeth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Rückrechnungsmeth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Fortschreibungsmeth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27b" descr=""/>
          <p:cNvPicPr/>
          <p:nvPr/>
        </p:nvPicPr>
        <p:blipFill>
          <a:blip r:embed="rId1"/>
          <a:stretch/>
        </p:blipFill>
        <p:spPr>
          <a:xfrm>
            <a:off x="1114560" y="1673280"/>
            <a:ext cx="69134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4572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I. Kostenar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 Erfassung zentraler Kosten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1.2. Bewertung des Materialverbrauc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Bewertung zu Anschaffungsprei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Bewertung zu Wiederbeschaffungsprei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Bewertung zu festen Verrechnungsprei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09:56:48Z</dcterms:created>
  <dc:creator>Administrator</dc:creator>
  <dc:description/>
  <dc:language>en-US</dc:language>
  <cp:lastModifiedBy>Administrator</cp:lastModifiedBy>
  <dcterms:modified xsi:type="dcterms:W3CDTF">2002-03-26T14:46:29Z</dcterms:modified>
  <cp:revision>36</cp:revision>
  <dc:subject/>
  <dc:title>Kein Folientitel</dc:title>
</cp:coreProperties>
</file>