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FF5-8648-4A7F-9B23-3D46C15F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ED5-FE7C-4B93-9F67-C92276B1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51E-B98C-4349-BF14-B66DBC35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324-C32A-4125-B83A-E39B8203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E69-37FA-4DB5-92EE-782D974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3C2-986D-4C90-89E2-D1720B43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69F-815C-4206-8996-D577E527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E9F-D82B-46DF-A54B-3C453E7B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CC4-4FB6-4C93-A1D3-FA531535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B60-CD98-4743-95B5-53C6E01C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0EC-D5EC-4953-9060-A79D213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A92-0792-43E6-ADC9-98BEAD75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5858-E4D5-4FD1-8EEA-C2D7452CB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sten- und Leistungsrechnung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 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ie KLR als Teil des Rechnungswes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Anwendungsbereich der K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rund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1.Entwicklung des Kostenbeg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2. Einzel- und Gemein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3.Primäre und sekundäre (Gemein-)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. Variable und fix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. Grenz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6. Sonstige Kosteneintei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II. Prozeßkosten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1. Allgeme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. Grundlagen der Prozeßkost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3. Abstimmung von Aktivitäten, Bezugsgrößen und Proz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III. Target Co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9144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522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eraturhinw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99072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abele/Fisch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Kosten- und Erlösrechn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hlen Verlag, Mün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üpper/Bösl/Breid/Ko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Übungsbuch zur Kosten- u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Erlösrechnu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hlen Verlag, Mün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053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se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Technik des betrieblichen Rechnungswes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hlen Verlag Mün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00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Jórasz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osten- und Leistungsrechnung,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chäffer/Poeschel Verlag, Stuttg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60357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cker/Ferst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Kostenrechnung,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CD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elbstlernzentrum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Biblioth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99072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tranet-Adresse der Powerpoint-Prä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sten- und Leistungsrechnun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581280"/>
            <a:ext cx="883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Public auf „Bw-caesar\user\Prof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Heel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powerpoint kostenrechn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449568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5257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80988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 Kostenrechn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1.1.  Istkost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1.2. Normal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1.3. Plan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2.Vollkosten-/Teilkostenrechn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 Abrechnungstechnische Auf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. Informationszw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. Organisationsmit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. Material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. Personal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3. Kalkulatorisch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. Kostenstellen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 Ziele und Aufgaben der Kostenstell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. Organisationsmit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.1. Kostenstellen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.2. Durchführung der Kostenstell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.3. Betriebsabrechnungs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. Bildung von Kalkulations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. Kostenträger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 Aufgaben der Kostenträger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. Zweck der Kostenträger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. Kalkulations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. Kalkulation im Handels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. Kostenträgerzeitrechnung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rzfristige Erfolgsrechnung (K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Leistungs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esamtkostenverfahren (GK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Umsatzkostenverfahren (UK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urchführung der Betriebsergebnis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1. Mangelnde Aussagefähigkeit der Vollkost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2. Deckungsbeitrags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3. Kostenauf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4. Break-Even-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. Kostenträger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 Aufgaben der Kostenträger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. Zweck der Kostentragerstück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. Kalkulations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. Kalkulation im Handels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I. Plankosten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1. Abgrenzung: Istkosten-, Normalkosten- und Plankost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. Begr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3. Aufgaben der Plankost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 Systeme der Plankostenre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1. Starre Plankost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2. Flexible Plankost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4.3. Flexible Plankostenrechnung al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renzkosten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2209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 Methoden und Probleme 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osten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5.1. Preisabweich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5.2. Verbrauchsabweich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5.3. Beschäftigungsabwe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6. Berücksichtigung von Beschäftigungs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än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6.1 Stufen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6.2. Variatorme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0:45:12Z</dcterms:created>
  <dc:creator>Administrator</dc:creator>
  <dc:description/>
  <dc:language>en-US</dc:language>
  <cp:lastModifiedBy>Administrator</cp:lastModifiedBy>
  <dcterms:modified xsi:type="dcterms:W3CDTF">2002-03-19T12:27:41Z</dcterms:modified>
  <cp:revision>35</cp:revision>
  <dc:subject/>
  <dc:title>Kein Folientitel</dc:title>
</cp:coreProperties>
</file>